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406-E904-4301-AA89-D560CECE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D14-6F5D-443F-87DF-8D7C833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C80-8918-464C-846D-E7BFA9A0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56A-4F5F-4478-B69E-358DD34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F20-6A7D-4DA4-9987-A6014401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FEA-D419-42A7-8762-07940DAF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91E-90DE-4D84-921A-8343097B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F4F-422A-461F-B6D8-A6DD8E65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7DB-E73C-4898-A032-D9026E7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012-B1CC-49A9-B6FF-398B1005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BDD-E205-4584-A944-646D537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E7A-C253-4894-9488-64A4712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3E13-5350-447F-B775-FDCE7D64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 SSS/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33520"/>
            <a:ext cx="77724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508040"/>
            <a:ext cx="77724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6560" y="609480"/>
            <a:ext cx="766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74640"/>
            <a:ext cx="77724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984240"/>
            <a:ext cx="77724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31520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4235400"/>
            <a:ext cx="7543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57120"/>
            <a:ext cx="8229600" cy="25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241800"/>
            <a:ext cx="6934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77920"/>
            <a:ext cx="7086600" cy="368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44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436680"/>
            <a:ext cx="6781680" cy="329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173480"/>
            <a:ext cx="77724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436680"/>
            <a:ext cx="6781680" cy="352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4476600"/>
            <a:ext cx="655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766800"/>
            <a:ext cx="77724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9200"/>
            <a:ext cx="7467480" cy="388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4259160"/>
            <a:ext cx="6858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2840" y="609480"/>
            <a:ext cx="6716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98360"/>
            <a:ext cx="7238880" cy="376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4203720"/>
            <a:ext cx="7162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39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285840"/>
            <a:ext cx="6629400" cy="344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4764240"/>
            <a:ext cx="70866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28520"/>
            <a:ext cx="5638680" cy="383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3600360"/>
            <a:ext cx="8229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750960"/>
            <a:ext cx="44956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855720"/>
            <a:ext cx="7772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751040"/>
            <a:ext cx="7772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596960"/>
            <a:ext cx="77724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25480"/>
            <a:ext cx="77724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6372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511280"/>
            <a:ext cx="77724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991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1:38:24Z</dcterms:created>
  <dc:creator>PSD</dc:creator>
  <dc:description/>
  <dc:language>en-US</dc:language>
  <cp:lastModifiedBy>Parkland High School</cp:lastModifiedBy>
  <dcterms:modified xsi:type="dcterms:W3CDTF">2010-12-17T13:51:48Z</dcterms:modified>
  <cp:revision>9</cp:revision>
  <dc:subject/>
  <dc:title>4.3 SSS/SAS</dc:title>
</cp:coreProperties>
</file>